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B18-CC31-4D06-9DBA-6BB5B1EE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034-0A2B-4848-B92F-60E006D0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4DB6-5A12-4E2F-9E41-8D46E031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307E-26DD-46A4-B531-3E556432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F586-302F-4648-A48F-DE7F61F1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FA5D-499C-45B7-B583-4442A588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3B90-646E-4C45-A3B8-C96BE4D4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07FD-9DDC-4781-ADD9-8EBC63D4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E81A-410C-474B-9395-4F63FD5C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3B2D-8FF4-427E-870E-3AE01C22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0F96-1DE6-406C-AAA7-01B5F35D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6651-E321-4A97-9CBD-8F22C0C1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B99B-3493-445F-8499-86206E64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6892-11EF-4AB6-BE33-FCF9C0F5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DD0A-FEF1-403F-A0FE-3E3CE171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1803-9F1E-45C0-A50A-25AF6C61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FC93-7881-4BB4-A97D-AE8B1F85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F532-A6B1-4C6D-B965-3B95EF57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72A0-8DA7-4E7B-93FC-DEA79ECB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CB4A-E591-4387-A738-57E7D52D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C38-0F8D-4936-A9CC-BDAC8B11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AA9-0C3D-4D7B-8450-BFF3A638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8F2C-A0D3-411F-BD7A-9965BB38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7A3-1E2B-41B4-8EED-D6734604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7973-6B0B-4C6B-BCB5-3665F5084BD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9286-F8AF-46C1-BFB7-5C78D8AC0B3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s.ubc.ca/~murphyk/Software" TargetMode="External"/><Relationship Id="rId2" Type="http://schemas.openxmlformats.org/officeDocument/2006/relationships/hyperlink" Target="http://www.csse.monash.edu.au/bai/book/appendix_b.pdf" TargetMode="External"/><Relationship Id="rId3" Type="http://schemas.openxmlformats.org/officeDocument/2006/relationships/hyperlink" Target="http://www.csse.monash.edu.au/bai/book/appendix_b.pdf" TargetMode="External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se.monash.edu.au/bai" TargetMode="External"/><Relationship Id="rId2" Type="http://schemas.openxmlformats.org/officeDocument/2006/relationships/hyperlink" Target="http://www.csse.monash.edu.au/bai" TargetMode="External"/><Relationship Id="rId3" Type="http://schemas.openxmlformats.org/officeDocument/2006/relationships/hyperlink" Target="http://www.dcs.qmw.ac.uk/~norman/BBNs/idxlist.htm" TargetMode="External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dictive in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 absence of any observed evid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143000" y="3124080"/>
                <a:ext cx="69976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828800" y="4267080"/>
                <a:ext cx="548640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9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8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7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dictive in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t’s say we now have evidence that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a=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174680" y="3139920"/>
                <a:ext cx="69357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B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B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514600" y="4038480"/>
                <a:ext cx="413244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5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855720" y="5302080"/>
            <a:ext cx="80294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d if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a=T and b=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301840" y="5913360"/>
                <a:ext cx="48769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nostic in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9640" y="2417400"/>
            <a:ext cx="802944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asoning from leaf upwards to root 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 Bayes ru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895480" y="3352680"/>
                <a:ext cx="3657600" cy="10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|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|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133720" y="4419720"/>
                <a:ext cx="51814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141640" y="5546880"/>
                <a:ext cx="529092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|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agnostic in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2417760"/>
            <a:ext cx="807732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there had been a link from another node into N, we would have needed to have normalised our expression over the additional 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90720" y="3962520"/>
            <a:ext cx="2133000" cy="1981080"/>
            <a:chOff x="990720" y="3962520"/>
            <a:chExt cx="2133000" cy="1981080"/>
          </a:xfrm>
        </p:grpSpPr>
        <p:sp>
          <p:nvSpPr>
            <p:cNvPr id="184" name=""/>
            <p:cNvSpPr/>
            <p:nvPr/>
          </p:nvSpPr>
          <p:spPr>
            <a:xfrm>
              <a:off x="990720" y="3962520"/>
              <a:ext cx="83772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28440" y="5181840"/>
              <a:ext cx="838080" cy="76176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85640" y="3962520"/>
              <a:ext cx="838080" cy="762120"/>
            </a:xfrm>
            <a:prstGeom prst="ellipse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04920" y="4124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28960" y="5327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86160" y="4110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99840" y="4724640"/>
              <a:ext cx="45684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361960" y="4724640"/>
              <a:ext cx="30456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971800" y="4114800"/>
                <a:ext cx="590868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|</m:t>
                            </m:r>
                            <m:r>
                              <m:t xml:space="preserve">o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=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bined in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447920" y="3124080"/>
            <a:ext cx="2057400" cy="2438640"/>
            <a:chOff x="1447920" y="3124080"/>
            <a:chExt cx="2057400" cy="2438640"/>
          </a:xfrm>
        </p:grpSpPr>
        <p:grpSp>
          <p:nvGrpSpPr>
            <p:cNvPr id="195" name=""/>
            <p:cNvGrpSpPr/>
            <p:nvPr/>
          </p:nvGrpSpPr>
          <p:grpSpPr>
            <a:xfrm>
              <a:off x="1447920" y="3124080"/>
              <a:ext cx="685800" cy="685800"/>
              <a:chOff x="1447920" y="3124080"/>
              <a:chExt cx="685800" cy="685800"/>
            </a:xfrm>
          </p:grpSpPr>
          <p:sp>
            <p:nvSpPr>
              <p:cNvPr id="196" name=""/>
              <p:cNvSpPr/>
              <p:nvPr/>
            </p:nvSpPr>
            <p:spPr>
              <a:xfrm>
                <a:off x="1447920" y="31240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588320" y="32619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087640" y="3992400"/>
              <a:ext cx="685800" cy="685800"/>
              <a:chOff x="2087640" y="3992400"/>
              <a:chExt cx="685800" cy="685800"/>
            </a:xfrm>
          </p:grpSpPr>
          <p:sp>
            <p:nvSpPr>
              <p:cNvPr id="199" name=""/>
              <p:cNvSpPr/>
              <p:nvPr/>
            </p:nvSpPr>
            <p:spPr>
              <a:xfrm>
                <a:off x="2087640" y="399240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228040" y="4130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743200" y="3124080"/>
              <a:ext cx="685800" cy="685800"/>
              <a:chOff x="2743200" y="3124080"/>
              <a:chExt cx="685800" cy="685800"/>
            </a:xfrm>
          </p:grpSpPr>
          <p:sp>
            <p:nvSpPr>
              <p:cNvPr id="202" name=""/>
              <p:cNvSpPr/>
              <p:nvPr/>
            </p:nvSpPr>
            <p:spPr>
              <a:xfrm>
                <a:off x="2743200" y="312408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883240" y="32619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1447920" y="4876920"/>
              <a:ext cx="685800" cy="685800"/>
              <a:chOff x="1447920" y="4876920"/>
              <a:chExt cx="685800" cy="685800"/>
            </a:xfrm>
          </p:grpSpPr>
          <p:sp>
            <p:nvSpPr>
              <p:cNvPr id="205" name=""/>
              <p:cNvSpPr/>
              <p:nvPr/>
            </p:nvSpPr>
            <p:spPr>
              <a:xfrm>
                <a:off x="1447920" y="487692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587960" y="50148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2819520" y="4876920"/>
              <a:ext cx="685800" cy="685800"/>
              <a:chOff x="2819520" y="4876920"/>
              <a:chExt cx="685800" cy="685800"/>
            </a:xfrm>
          </p:grpSpPr>
          <p:sp>
            <p:nvSpPr>
              <p:cNvPr id="208" name=""/>
              <p:cNvSpPr/>
              <p:nvPr/>
            </p:nvSpPr>
            <p:spPr>
              <a:xfrm>
                <a:off x="2819520" y="487692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59920" y="5014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981080" y="3733920"/>
              <a:ext cx="22860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2666520" y="3809880"/>
              <a:ext cx="38124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1980720" y="4648320"/>
              <a:ext cx="38124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35200" y="4648320"/>
              <a:ext cx="30492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022640" y="2941560"/>
            <a:ext cx="50151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Where you have evidence from say N and B and form a query on an intermediate node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E.g. use diagnostic inference to determine p(o=T|n=?) and then use predictive inference to determine p(o=T) given the evidence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Can compute, for example p(o=T|n=T,b=T)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37000" y="27255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vide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620800" y="560700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vide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41450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Que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tercausal inference</a:t>
            </a:r>
            <a:br>
              <a:rPr sz="3600"/>
            </a:br>
            <a:r>
              <a:rPr b="1" lang="en-GB" sz="2400" spc="-1" strike="noStrike">
                <a:solidFill>
                  <a:srgbClr val="006666"/>
                </a:solidFill>
                <a:latin typeface="Arial"/>
              </a:rPr>
              <a:t>“explaining away”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29200" y="2743200"/>
            <a:ext cx="50148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A and B are independent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A is dependent on B given O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If, for example, p(a=T|o=T) &gt; p(a=T|o=T,b=T) then the odds are that a=T rather than b=T caused o=T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We say that O is “explained away”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295280" y="3200400"/>
            <a:ext cx="2516040" cy="1952640"/>
            <a:chOff x="1295280" y="3200400"/>
            <a:chExt cx="2516040" cy="1952640"/>
          </a:xfrm>
        </p:grpSpPr>
        <p:grpSp>
          <p:nvGrpSpPr>
            <p:cNvPr id="221" name=""/>
            <p:cNvGrpSpPr/>
            <p:nvPr/>
          </p:nvGrpSpPr>
          <p:grpSpPr>
            <a:xfrm>
              <a:off x="1371600" y="3598920"/>
              <a:ext cx="685800" cy="685800"/>
              <a:chOff x="1371600" y="3598920"/>
              <a:chExt cx="685800" cy="685800"/>
            </a:xfrm>
          </p:grpSpPr>
          <p:sp>
            <p:nvSpPr>
              <p:cNvPr id="222" name=""/>
              <p:cNvSpPr/>
              <p:nvPr/>
            </p:nvSpPr>
            <p:spPr>
              <a:xfrm>
                <a:off x="1371600" y="359892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12000" y="3736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011320" y="4467240"/>
              <a:ext cx="685800" cy="685800"/>
              <a:chOff x="2011320" y="4467240"/>
              <a:chExt cx="685800" cy="685800"/>
            </a:xfrm>
          </p:grpSpPr>
          <p:sp>
            <p:nvSpPr>
              <p:cNvPr id="225" name=""/>
              <p:cNvSpPr/>
              <p:nvPr/>
            </p:nvSpPr>
            <p:spPr>
              <a:xfrm>
                <a:off x="2011320" y="446724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51720" y="46051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2666880" y="3598920"/>
              <a:ext cx="685800" cy="685800"/>
              <a:chOff x="2666880" y="3598920"/>
              <a:chExt cx="685800" cy="685800"/>
            </a:xfrm>
          </p:grpSpPr>
          <p:sp>
            <p:nvSpPr>
              <p:cNvPr id="228" name=""/>
              <p:cNvSpPr/>
              <p:nvPr/>
            </p:nvSpPr>
            <p:spPr>
              <a:xfrm>
                <a:off x="2666880" y="359892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06920" y="37368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1904760" y="4208760"/>
              <a:ext cx="22860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590200" y="4284720"/>
              <a:ext cx="38124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60680" y="3200400"/>
              <a:ext cx="11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Evidenc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82720" y="4618080"/>
              <a:ext cx="11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Evidence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95280" y="3232440"/>
              <a:ext cx="81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Times New Roman"/>
                </a:rPr>
                <a:t>Query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620120" y="2743200"/>
                <a:ext cx="9000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⊥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 approach to in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2438280"/>
            <a:ext cx="762012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aving their origins in Pearl’s work on Junction Trees (“Probabilistic Reasoning in Intelligent Systems”, Pearl 1988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fficient schemes exist for global computation of probabilities using local message passing (e.g. Jensen and Lauritzen 1990 and Lauritzen and Spiegelhalter 1988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yond the scope of this course, but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yesian inference too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2438280"/>
            <a:ext cx="762012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re are a number of packages out there to do the work for you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s.ubc.ca/~murphyk/Software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: Kevin Murphy’s B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csse.monash.edu.au/bai/book/appendix_b.</a:t>
            </a:r>
            <a:r>
              <a:rPr b="0" lang="en-GB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pdf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: Excellent summary of various packages and their capabil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yesian inference allows the values of evidence nodes to be used systematically to update query 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can distinguish 4 modes of inference: predictive, diagnostic, combined and explaining aw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rge Bayesian networks can be evaluated efficiently using Bayesian inference toolkits available on the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236232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43360" indent="-24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aussian mix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43360" indent="-243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 lot of excellent reference material on Bayesian reasoning can be found a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43360" indent="-24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GB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sse.monash.edu.au/</a:t>
            </a:r>
            <a:r>
              <a:rPr b="0" lang="en-GB" sz="1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ba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GB" sz="1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dcs.qmw.ac.uk/~norman/BBNs/idxlist.ht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6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ference in Bayesian net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dictive in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iagnostic in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ombined in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rcausal in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eneral approaches for in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ayesian inference too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 why is Bayesian inference relevant to Cognitive CV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9640" y="2417760"/>
            <a:ext cx="80294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a well-founded methodology for reasoning with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methods are the basis for our model of perception guided by expec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can develop well-founded methods of learning rather than just being stuck with hand-coded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438280"/>
            <a:ext cx="762012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lculating a probability over a set of nodes given the values of other no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 modes of inferenc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DICTIVE (from root to lea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AGNOSTIC (from leaf to roo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BINED (predictive and diagnostic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CAUS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438280"/>
            <a:ext cx="762012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ference Also called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conditioning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belief upd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 will have some values (evidence nodes) and  want to establish others (query nod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on’t confuse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prior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with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evid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iors are statistical statements of how likely something is to “happen” (frequentist view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vidence means that you know it has happen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vision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29200" y="2468520"/>
            <a:ext cx="50148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All discrete nodes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A and B are feature detectors for some area in an image (perhaps A is colour based and B is shape based)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O is an object detector that bases its decision solely on A and B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N determines how likely another is to be found nearby when the object detector finds its object 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66"/>
                </a:solidFill>
                <a:latin typeface="Arial"/>
              </a:rPr>
              <a:t>C represents an action context that is relevant when the object detector finds its object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600200" y="3124080"/>
            <a:ext cx="1736640" cy="2463840"/>
            <a:chOff x="1600200" y="3124080"/>
            <a:chExt cx="1736640" cy="2463840"/>
          </a:xfrm>
        </p:grpSpPr>
        <p:sp>
          <p:nvSpPr>
            <p:cNvPr id="106" name=""/>
            <p:cNvSpPr/>
            <p:nvPr/>
          </p:nvSpPr>
          <p:spPr>
            <a:xfrm>
              <a:off x="1981080" y="3733920"/>
              <a:ext cx="22860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650680" y="3778200"/>
              <a:ext cx="38124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980720" y="4648320"/>
              <a:ext cx="38124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35200" y="4648320"/>
              <a:ext cx="30492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00200" y="3124080"/>
              <a:ext cx="685800" cy="6098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49600" y="3149640"/>
              <a:ext cx="685800" cy="6094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12840" y="4037040"/>
              <a:ext cx="685800" cy="6094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51040" y="4978440"/>
              <a:ext cx="685800" cy="6094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47720" y="4952880"/>
              <a:ext cx="685800" cy="60984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64360" y="3214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60840" y="3209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40640" y="410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94240" y="5035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34280" y="504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vision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cupoftea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4597560" cy="2908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38080" y="5638680"/>
            <a:ext cx="81536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detects red areas, B detects the cup shape, O detects the cup of tea, the potential nearby object is a saucer and the action context is someone picking up the tea to drink it!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568520" y="2690640"/>
            <a:ext cx="1929960" cy="2671200"/>
            <a:chOff x="1568520" y="2690640"/>
            <a:chExt cx="1929960" cy="2671200"/>
          </a:xfrm>
        </p:grpSpPr>
        <p:sp>
          <p:nvSpPr>
            <p:cNvPr id="124" name=""/>
            <p:cNvSpPr/>
            <p:nvPr/>
          </p:nvSpPr>
          <p:spPr>
            <a:xfrm>
              <a:off x="1991520" y="3351960"/>
              <a:ext cx="253800" cy="330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736000" y="3399840"/>
              <a:ext cx="423720" cy="247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991160" y="4343400"/>
              <a:ext cx="423720" cy="330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8720" y="4343400"/>
              <a:ext cx="338760" cy="330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68520" y="2690640"/>
              <a:ext cx="762120" cy="6613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34920" y="2718000"/>
              <a:ext cx="762120" cy="6606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38040" y="3680640"/>
              <a:ext cx="762120" cy="6606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36360" y="4701240"/>
              <a:ext cx="762120" cy="66060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21080" y="4673520"/>
              <a:ext cx="762120" cy="6613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0320" y="2788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57680" y="2783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0240" y="3749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83080" y="4763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40120" y="4770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vision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39880" y="2452680"/>
          <a:ext cx="1110960" cy="671400"/>
        </p:xfrm>
        <a:graphic>
          <a:graphicData uri="http://schemas.openxmlformats.org/drawingml/2006/table">
            <a:tbl>
              <a:tblPr/>
              <a:tblGrid>
                <a:gridCol w="1110960"/>
              </a:tblGrid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a=detect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900600" y="2438280"/>
          <a:ext cx="1110960" cy="671760"/>
        </p:xfrm>
        <a:graphic>
          <a:graphicData uri="http://schemas.openxmlformats.org/drawingml/2006/table">
            <a:tbl>
              <a:tblPr/>
              <a:tblGrid>
                <a:gridCol w="1110960"/>
              </a:tblGrid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b=detect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4145040" y="3260880"/>
          <a:ext cx="1904760" cy="1787400"/>
        </p:xfrm>
        <a:graphic>
          <a:graphicData uri="http://schemas.openxmlformats.org/drawingml/2006/table">
            <a:tbl>
              <a:tblPr/>
              <a:tblGrid>
                <a:gridCol w="533160"/>
                <a:gridCol w="380880"/>
                <a:gridCol w="99072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=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=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o=T|A,B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9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808440" y="5500800"/>
          <a:ext cx="1447560" cy="1087200"/>
        </p:xfrm>
        <a:graphic>
          <a:graphicData uri="http://schemas.openxmlformats.org/drawingml/2006/table">
            <a:tbl>
              <a:tblPr/>
              <a:tblGrid>
                <a:gridCol w="533160"/>
                <a:gridCol w="914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=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n=T|O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960480" y="5546880"/>
          <a:ext cx="1447920" cy="1066680"/>
        </p:xfrm>
        <a:graphic>
          <a:graphicData uri="http://schemas.openxmlformats.org/drawingml/2006/table">
            <a:tbl>
              <a:tblPr/>
              <a:tblGrid>
                <a:gridCol w="533520"/>
                <a:gridCol w="9144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=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(c=T|O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066280" y="2452680"/>
            <a:ext cx="249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hese priors are established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during a training proces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8320" y="3733920"/>
            <a:ext cx="2046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his table specifies th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performance of th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object detector whe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 =detected, 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F = not detect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42040" y="5638680"/>
            <a:ext cx="300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The context is “will be picked up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if c=T. The saucer object is nearb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if n=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081160" y="3124080"/>
            <a:ext cx="1672920" cy="2303280"/>
            <a:chOff x="2081160" y="3124080"/>
            <a:chExt cx="1672920" cy="2303280"/>
          </a:xfrm>
        </p:grpSpPr>
        <p:sp>
          <p:nvSpPr>
            <p:cNvPr id="148" name=""/>
            <p:cNvSpPr/>
            <p:nvPr/>
          </p:nvSpPr>
          <p:spPr>
            <a:xfrm>
              <a:off x="2448000" y="3693960"/>
              <a:ext cx="219960" cy="284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093480" y="3735360"/>
              <a:ext cx="367200" cy="2134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448000" y="4548960"/>
              <a:ext cx="367200" cy="284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78360" y="4548960"/>
              <a:ext cx="293760" cy="284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1160" y="3124080"/>
              <a:ext cx="660600" cy="56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92040" y="3147840"/>
              <a:ext cx="660600" cy="5695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75080" y="3977640"/>
              <a:ext cx="660600" cy="5695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93480" y="4857840"/>
              <a:ext cx="660600" cy="56952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26880" y="4833720"/>
              <a:ext cx="660600" cy="569880"/>
            </a:xfrm>
            <a:prstGeom prst="rect">
              <a:avLst/>
            </a:prstGeo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38480" y="3208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99320" y="3202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97480" y="4036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68720" y="4911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70600" y="4916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dictive infer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09640" y="2417400"/>
            <a:ext cx="802944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et’s see this applied to our exam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 use marginalisation to evaluate our queries based on the evidence we have observed (if we have an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725480" y="4419720"/>
                <a:ext cx="53881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76240" y="5578560"/>
                <a:ext cx="45561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O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5:42:46Z</dcterms:created>
  <dc:creator>Sage</dc:creator>
  <dc:description/>
  <dc:language>en-US</dc:language>
  <cp:lastModifiedBy>Sage</cp:lastModifiedBy>
  <dcterms:modified xsi:type="dcterms:W3CDTF">2005-03-24T14:11:20Z</dcterms:modified>
  <cp:revision>106</cp:revision>
  <dc:subject/>
  <dc:title>Programming Techniques 804G5</dc:title>
</cp:coreProperties>
</file>